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BF7-E041-4C56-9E53-674A4549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BCD-3067-406D-924A-7C4A8E2E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5C9-668E-4DA7-9FB7-7CB4B52D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172-835A-490F-900B-89E4C27C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98A-33D1-4679-B90F-AD76C46F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3B45-3DE2-4F36-AE84-65AD112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D265-4AA0-416B-A81A-3C7057FA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E53A-458D-498A-A43A-9E4C081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4AF6-09F6-4596-B961-25156254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FBA7-7FEE-4909-BF3D-FD0A584E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C472-DEAB-4754-9037-A8058AD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2DF-2E49-463C-9F58-A5DE7798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5F6E-C114-4BA5-9496-ED470BB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5151-7455-4357-B0CB-546DC48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C691-19A1-4B0D-86B3-D2712E5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0C44-FBBC-4772-856B-5102E203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E030-C380-42B9-B823-420C02EF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5B6-6BC9-4EAD-9FD4-8868D299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A90-5085-4515-B53F-436B884E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634-024E-4FDB-B730-325FC97F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DB8-4E6A-485D-A5C1-5A0C293E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662-7E83-48E7-A134-2C2344C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8E9-75E1-4EE0-9D6A-D8A4B4BE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21D-8F23-4FE9-B6A5-4B91E2DE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3A2-7C03-483E-B721-F7AA612E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51BF-9AF4-4B3E-B2DB-A14B8ABC7051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57280" y="578808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808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8620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oward a Unified Gene Pag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Apri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01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nd size of default docu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, text, document-lik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reen or lo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(maps, icons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Detail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and Design (colors, formatting, fonts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2070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&amp;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organism community (org. standard) or for general reader (general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beginners or experts (simple,compl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customizable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91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81000" y="177840"/>
            <a:ext cx="7182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6531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391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2936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text of gene p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 you see (web page) is also what your computer can rea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d human-readable, or complex and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variants, tabular,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2XML, NCBI XML,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(Web -&gt;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XML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net news (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www.bio.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s new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celegans, yeast, chlamydomonas, drosophila, zebrafish, maize, urodeles; genbank, embl, software, others.  Letters of Suppor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Grid (NSF Shared Cyberinfrastructure) wants to help MOD genome comp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for FlyBase and euGenes this fall -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on Gilbert fo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traneous announcement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ly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66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east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305000"/>
            <a:ext cx="70866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ouse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2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orm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656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: Design your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/paste sample XML pages into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what should be un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best parts of MOD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: Talk MODs into generating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eugenes.org/all/gene-report-exampl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1320" y="61920"/>
            <a:ext cx="74595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rts of MOD gen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/should be un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benefit? 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Web Repor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M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: discuss, design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e P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9520"/>
            <a:ext cx="7772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, symbols/IDs, 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ross-refs, Exter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,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Mutant Phen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, Structure and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342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s - are these sam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/ locus / 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 / ortholog / relationship / similar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 / publication /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docu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at 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mmon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14T02:13:55Z</cp:lastPrinted>
  <dcterms:modified xsi:type="dcterms:W3CDTF">2004-04-26T01:53:51Z</dcterms:modified>
  <cp:revision>75</cp:revision>
  <dc:subject/>
  <dc:title>wFleaBase in ARGOS</dc:title>
</cp:coreProperties>
</file>